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753-E953-428A-9D4D-E987BFFA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4CB-8653-4D3E-BE00-C5408FB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0FA-0E4B-4158-8B4B-A39000F7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31A-7F49-4D14-8F2C-79E9F4DE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FF05-C61F-4E50-88F9-BC0FAE62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D77-51A9-427C-BC80-D55490CB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FFCC-0C92-40AA-AD51-9C4C25D0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39F4-52AC-4E3A-A4CA-B2DE1F1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0962-FD94-4C52-9EE0-F00DE9D2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F44-5DFF-4CEB-B1A9-63584CF6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8BF0-AA30-449F-93EB-521B54B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F0F-785A-4E37-8E56-57818B3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EA0B-CF2E-44D4-B9ED-D90E7F4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0701-051C-4B5F-B83D-9827F001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97B2-F353-49A1-9C29-F0FFC66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BBD6-9248-4163-BCE0-02B5CD78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7826-5E3D-4EA6-B6CE-B54D810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A6E-40BA-4E08-8497-43FB8CB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652-82A5-418D-B3E1-2562D1B8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7A2-F824-4A1A-B7B1-B4A1A82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E20-3E1D-488F-A483-D84BDF1B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E18-6302-4A46-999D-7AD00C2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DC0-7093-4842-9BEE-8D57C22D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811-7677-4737-A57F-AC251C7D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F76-43EC-4C0C-813D-B287AE2DB7E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B55A-3865-4E4C-B05A-7EEA953CEA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6788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66"/>
                </a:solidFill>
                <a:latin typeface="Verdana"/>
              </a:rPr>
              <a:t>El contrato de trabajo</a:t>
            </a:r>
            <a:endParaRPr b="0" lang="en-US" sz="8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5257440"/>
            <a:ext cx="4437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dalidades de contrat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8080" y="1905120"/>
          <a:ext cx="8184960" cy="3809520"/>
        </p:xfrm>
        <a:graphic>
          <a:graphicData uri="http://schemas.openxmlformats.org/drawingml/2006/table">
            <a:tbl>
              <a:tblPr/>
              <a:tblGrid>
                <a:gridCol w="2728080"/>
                <a:gridCol w="2728440"/>
                <a:gridCol w="2728440"/>
              </a:tblGrid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EFIN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A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definido Ord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mento Contratación Indefin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ra o Servi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 de la prod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la Form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a0000"/>
                        </a:buClr>
                        <a:buSzPct val="75000"/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ÍNDI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epto de Contra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acterísticas del contra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idos Esenciales del contra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íodo de Prueb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alidades de Contra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63000"/>
            <a:ext cx="816300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Qué es el Contrato de trabajo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 (Concepto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2539800"/>
            <a:ext cx="811044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uerdo por el que el/la trabajador/a se compromete voluntariamente a prestar servicios por cuenta y dentro del ámbito de organización y dirección de otra persona física o jurídica mediante una retribu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aracterísticas del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ntrato de trabaj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2187720"/>
            <a:ext cx="81104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EN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TRIB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END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ÁCTER PERS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LUNTARI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787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rebuchet MS"/>
              </a:rPr>
              <a:t>Contenido esencial del contrato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identidad de las par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fecha del comienzo de la relación laboral y, en caso de ser temporal, la duración previsible de la mis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domicilio social de la empre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categoría o el grupo profesional del pues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cuantía del salario base inicial y de los complementos salariales, así como la peridiocidad de su pa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duración y distribución de la jornada ordinaria de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duración de las vac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plazos de preaviso que, en su caso, estén obligados a respetar el empresario y el trabajador en el supuesto de extinción del contra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convenio colectivo aplicable a la relación labo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IODO DE PRUEBA: Concept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Es el tiempo concertado por el trabajador y el empresario durante el cual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cualquiera de ellos puede dar por finalizada la relación laboral sin preavi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in necesidad de alegar ninguna causa y sin derecho a indemn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iene como finalidad, en el caso del empresario, comprobar si el trabajador está o no capacitado para desarrollar el trabajo para el que ha sido contratado, y en el caso del trabajador, permite conocer las condiciones en las que se va a desarrollar su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IODO DE PRUEBA: Dur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duración máxima del periodo de prueba depende del convenio colectivo aplic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al sector o empresa concreta y de la categoría profesional del trabajador/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a los/as trabajadores/as contratados por su calidad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técnicos o titulad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e establecerá un plazo de prueba máximo d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6 me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a 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st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de los/as trabajadores/a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2 me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En las empresas de menos de 25 trabajadores, el periodo de prueba no podrá exceder de 3 meses para los que no sean técnicos o titul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71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20400" cy="632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: Alejandro Me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24:07Z</dcterms:created>
  <dc:creator>Biblioteca</dc:creator>
  <dc:description/>
  <dc:language>en-US</dc:language>
  <cp:lastModifiedBy>I.E.S. VISTA ALEGRE</cp:lastModifiedBy>
  <dcterms:modified xsi:type="dcterms:W3CDTF">2007-10-10T10:58:15Z</dcterms:modified>
  <cp:revision>9</cp:revision>
  <dc:subject/>
  <dc:title>El contrato de trabajo</dc:title>
</cp:coreProperties>
</file>